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0E3-BF49-47FC-8B95-0C85AA23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FBA-CCE1-4E50-9607-A3827A99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15A-E55B-4A9B-8708-D9D37D93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0B5-4E24-483A-A9B5-F17B1AD7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B3BA-99B9-43CC-BBA0-D25C3B25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2A5-086C-4A3E-8AAC-115F9FCC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0BA-E8E9-4703-9A52-27888C5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E34A-E2F9-42D4-B203-523C038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043B-A83C-492F-AE93-B88127B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852E-86B6-41F7-B11F-01759A5A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93EA-CE0E-4FE0-817A-F50DA1CE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D1E-DA85-48CF-8CDD-1AD5F78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570-7897-4915-B736-C624D9D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96E-D34C-4108-96AA-B9AFA5E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ED9-0FD8-4E78-8B9D-0EA579D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17C-9CDF-4D6A-B2D8-BE3DC349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2716-20B7-4846-A001-EB74CDEB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E91-4CDA-469E-9D05-FB5CD79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D08-121C-4B6F-9B94-EF26A12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37B-48EA-415A-86B8-897C0A2A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3DD-327F-45E9-A434-78A77AF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C15-D700-441C-B96E-F6828AF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021-D5C6-4F8A-86A8-F2F8129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632-93B3-4584-BA2D-568FE8F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75E-0532-4A13-B5A3-84C6A60E0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C84-7115-45C8-8EB2-3C3C37634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ampage?collId=llsl&amp;fileName=014/llsl014.db&amp;recNum=389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law of slavery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13</a:t>
            </a:r>
            <a:r>
              <a:rPr b="1" lang="en-US" sz="4400" spc="-1" strike="noStrike" baseline="30000">
                <a:solidFill>
                  <a:srgbClr val="ffffb7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mend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d by Congress on January 31, 1865, and ratified on December 6, 1865, the 13th amendment abolished slavery in the United States and provides that "Neither slavery nor involuntary serv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xcept as a punishment for crime whereof the party shall have been duly convicted, shall exist within the United States, or any place subject to their jurisdictio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13</a:t>
            </a:r>
            <a:r>
              <a:rPr b="1" lang="en-US" sz="4400" spc="-1" strike="noStrike" baseline="30000">
                <a:solidFill>
                  <a:srgbClr val="ffffb7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mend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3th amendment, which formally abolished slavery in the United States, passed the Senate on April 8, 1864, and the House on January 31, 18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February 1, 1865, President Abraham Lincoln approved the Joint Resolution of Congress submitting the proposed amendment to the state legisla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14</a:t>
            </a:r>
            <a:r>
              <a:rPr b="1" lang="en-US" sz="4400" spc="-1" strike="noStrike" baseline="30000">
                <a:solidFill>
                  <a:srgbClr val="ffffb7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mend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he 14th Amendment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to the Constitution was ratified on July 9, 1868, and granted citizenship to “all persons born or naturalized in the United States,” which included former slaves recently fre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addition, it forbids states from denying any person "life, liberty or property, without due process of law" or to "deny to any person within its jurisdiction the equal protection of the laws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 directly mentioning the role of the states, the 14th Amendment greatly expanded the protection of civil rights to all Americans and is cited in more litigation than any other amendme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51:20Z</dcterms:created>
  <dc:creator>teacher</dc:creator>
  <dc:description/>
  <dc:language>en-US</dc:language>
  <cp:lastModifiedBy>teacher</cp:lastModifiedBy>
  <dcterms:modified xsi:type="dcterms:W3CDTF">2010-01-14T18:27:09Z</dcterms:modified>
  <cp:revision>3</cp:revision>
  <dc:subject/>
  <dc:title> The law of slavery.</dc:title>
</cp:coreProperties>
</file>